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1F4B-EF7C-4E82-AE92-CDA46763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14AE-0C17-4003-980A-E3E29B3B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85C1-AA5F-47C9-B0C0-97E6C234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3F94-EACC-4693-A9DA-E9FDC67A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F65D-2763-4922-B3D3-2558B619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79C1-0AE6-4167-9799-CE141AA4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BA60-718C-462A-A742-701C15AF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4C69-5F03-45E7-83E5-138C0F9E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D83F-4A83-4070-B530-B8593D73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345B-C9D1-4B16-8204-558BFB84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0202-8671-4A2F-BBA3-8BCCCC64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8F99-23AB-436D-8C43-0ACA46BE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4468-2219-4D6F-B3CE-6183749E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1140-D0C8-4132-8ED4-12CC7023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15BD-B7D2-4A8B-B865-6691CB53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AF89-2588-4E17-AD50-5ED86315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68D6-DB46-471B-A4F6-47881080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6E3-432D-450F-A029-17826ADA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70B6-8AAF-4F20-B60E-3D4A400F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F4ED-EEA0-4409-8F62-E1821193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414D-5C0F-4924-A6E6-95AF8401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8C08-372B-4AF2-9012-5D1C7A89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5293-C6BB-4C9D-83F0-91F0B141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FE7C-60E0-4E3F-B52E-18319915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B8A9-99CB-4C37-8D6B-1188832F964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E4AF-C202-4907-A3D3-291F19F685A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B36A-1E5B-441F-808B-3B4586368BB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2849-120B-43C4-9D57-FBC4EF56CD6A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On fait les cours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Sur les rues française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7c9f"/>
                </a:solidFill>
                <a:latin typeface="News Gothic MT"/>
              </a:rPr>
              <a:t>On va à l’épicerie pour acheter des aliments fondimentales: de la farine, du sucre, du sel, du poivre, le riz, les céréales, etc.</a:t>
            </a:r>
            <a:endParaRPr b="0" lang="en-US" sz="24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7" name="Content Placeholder 3" descr="l'epicerie.jpg"/>
          <p:cNvPicPr/>
          <p:nvPr/>
        </p:nvPicPr>
        <p:blipFill>
          <a:blip r:embed="rId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Voilà la poissonnerie où on vend du poisson et des fruits de mer.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9" name="Content Placeholder 3" descr="poissonnerie pepone.jpg"/>
          <p:cNvPicPr/>
          <p:nvPr/>
        </p:nvPicPr>
        <p:blipFill>
          <a:blip r:embed="rId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7c9f"/>
                </a:solidFill>
                <a:latin typeface="News Gothic MT"/>
              </a:rPr>
              <a:t>Les français adorent leurs fromages!  Voilà la fromagérie.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1" name="Content Placeholder 3" descr="Fromagerie-Caseus.jpg"/>
          <p:cNvPicPr/>
          <p:nvPr/>
        </p:nvPicPr>
        <p:blipFill>
          <a:blip r:embed="rId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On peut acheter des </a:t>
            </a:r>
            <a:r>
              <a:rPr b="0" lang="en-US" sz="4000" spc="-1" strike="noStrike">
                <a:solidFill>
                  <a:srgbClr val="2c7c9f"/>
                </a:solidFill>
                <a:latin typeface="News Gothic MT"/>
              </a:rPr>
              <a:t>produits de lait et des vins à la crémérie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3" name="Content Placeholder 3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À la confiserie on vend des bonbons!!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5" name="Content Placeholder 3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4736880" cy="2558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4565520" y="3781440"/>
            <a:ext cx="3289320" cy="2463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3"/>
          <a:stretch/>
        </p:blipFill>
        <p:spPr>
          <a:xfrm>
            <a:off x="1031760" y="4314960"/>
            <a:ext cx="2997360" cy="2246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4"/>
          <a:stretch/>
        </p:blipFill>
        <p:spPr>
          <a:xfrm>
            <a:off x="5438880" y="1444680"/>
            <a:ext cx="31525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Bien sûr qu’il y a des autres lieux qu’il faut visiter!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91840" y="1512720"/>
            <a:ext cx="804204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e café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e tabac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2347920" y="16002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5253120" y="1600200"/>
            <a:ext cx="3174840" cy="2344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3"/>
          <a:stretch/>
        </p:blipFill>
        <p:spPr>
          <a:xfrm>
            <a:off x="2341440" y="3679920"/>
            <a:ext cx="2660760" cy="14763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6686640" y="4287960"/>
            <a:ext cx="15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La Poste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4"/>
          <a:stretch/>
        </p:blipFill>
        <p:spPr>
          <a:xfrm>
            <a:off x="5362560" y="4735440"/>
            <a:ext cx="2490840" cy="18669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8"/>
          <p:cNvSpPr/>
          <p:nvPr/>
        </p:nvSpPr>
        <p:spPr>
          <a:xfrm>
            <a:off x="3838320" y="584028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Les musées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ntrons vite à Paris!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8" name="Content Placeholder 7" descr=""/>
          <p:cNvPicPr/>
          <p:nvPr/>
        </p:nvPicPr>
        <p:blipFill>
          <a:blip r:embed="rId1"/>
          <a:stretch/>
        </p:blipFill>
        <p:spPr>
          <a:xfrm>
            <a:off x="1441440" y="1584360"/>
            <a:ext cx="661680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n France, on fait les courses dans les petits magasins.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arement, on visite le supermarché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haque magasin a son spécialité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n fait les courses plusieurs fois par semain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llons visiter une rue française typiqu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Bienvenue à Montmartre et au Sacré Cœur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8" name="Content Placeholder 3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Voilà la place du tertr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vec les artistes. . 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1762200" y="2349360"/>
            <a:ext cx="5635440" cy="3195720"/>
          </a:xfrm>
          <a:prstGeom prst="rect">
            <a:avLst/>
          </a:prstGeom>
          <a:ln w="0">
            <a:noFill/>
          </a:ln>
        </p:spPr>
      </p:pic>
      <p:sp>
        <p:nvSpPr>
          <p:cNvPr id="92" name="TextBox 14"/>
          <p:cNvSpPr/>
          <p:nvPr/>
        </p:nvSpPr>
        <p:spPr>
          <a:xfrm>
            <a:off x="4973760" y="5810400"/>
            <a:ext cx="35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. . . et les cafés magnifiques</a:t>
            </a: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À la boulangerie, on vend du pain et des croissant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4" name="Content Placeholder 3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À la pâtissérie on vend des tartes et des autres pâtisséries délicieuses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6" name="Content Placeholder 4" descr=""/>
          <p:cNvPicPr/>
          <p:nvPr/>
        </p:nvPicPr>
        <p:blipFill>
          <a:blip r:embed="rId1"/>
          <a:stretch/>
        </p:blipFill>
        <p:spPr>
          <a:xfrm>
            <a:off x="3100320" y="3600360"/>
            <a:ext cx="5388120" cy="2909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647640" y="1704960"/>
            <a:ext cx="419724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Voilà le marché où on vend des fruits et des légumes. Quels types voyez-vous?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9" name="Content Placeholder 5" descr="Marche Butte.jpg"/>
          <p:cNvPicPr/>
          <p:nvPr/>
        </p:nvPicPr>
        <p:blipFill>
          <a:blip r:embed="rId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On vend de la viande à la </a:t>
            </a:r>
            <a:r>
              <a:rPr b="0" lang="en-US" sz="4000" spc="-1" strike="noStrike">
                <a:solidFill>
                  <a:srgbClr val="2c7c9f"/>
                </a:solidFill>
                <a:latin typeface="News Gothic MT"/>
              </a:rPr>
              <a:t>boucherie.  Lisez au-dessous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1" name="Content Placeholder 3" descr="Boucherie 18e.jpg"/>
          <p:cNvPicPr/>
          <p:nvPr/>
        </p:nvPicPr>
        <p:blipFill>
          <a:blip r:embed="rId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À la charcuterie on vend du saucisson et du jamb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tretch/>
        </p:blipFill>
        <p:spPr>
          <a:xfrm>
            <a:off x="549360" y="1600200"/>
            <a:ext cx="4838760" cy="3174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2"/>
          <a:stretch/>
        </p:blipFill>
        <p:spPr>
          <a:xfrm>
            <a:off x="5388120" y="3340080"/>
            <a:ext cx="312408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3:14:01Z</dcterms:created>
  <dc:creator>John Chapman</dc:creator>
  <dc:description/>
  <dc:language>en-US</dc:language>
  <cp:lastModifiedBy>John Chapman</cp:lastModifiedBy>
  <dcterms:modified xsi:type="dcterms:W3CDTF">2012-03-28T01:31:33Z</dcterms:modified>
  <cp:revision>16</cp:revision>
  <dc:subject/>
  <dc:title>On fait les courses</dc:title>
</cp:coreProperties>
</file>